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3.gif" ContentType="image/gif"/>
  <Override PartName="/ppt/media/image15.gif" ContentType="image/gif"/>
  <Override PartName="/ppt/media/image1.png" ContentType="image/png"/>
  <Override PartName="/ppt/media/image14.gif" ContentType="image/gif"/>
  <Override PartName="/ppt/media/image2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9918-8D62-47EC-B3BC-DC696A9A7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949C-152D-4765-82C9-DC8AF81D1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62BB-2C76-48C5-83BB-B6A909AD0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72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364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72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364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BBA4-6DFB-49FF-A0A8-0520244B3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2F794-E311-4931-817F-606727B3B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D417B-2E58-4C49-8667-91B778030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8B3AE-9321-4B98-A32F-22C028E6C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2F509-2185-4DAC-B5CC-62E541DF9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A3C4E-C446-4471-8AAD-B88989554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A1699-48DE-4BAC-9A50-8A83D7B3A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04328-E2FA-4CD1-B2ED-446A2370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C8DD-14E7-41EC-9FBD-9AF831F02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983CB-4D1F-40ED-A224-D97DBF62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6E264-F9B7-4459-8874-D572C23C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987F3-3402-4C7F-93C9-9667FC88A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FDF71-421D-49FD-BA74-98A72DE43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3972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9364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3972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9364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79FF8-7754-45F0-9BB5-8C3774541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6EA6-3798-4035-9ABF-AC8B5615C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68A2-46C7-4884-8272-65C93FD8B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6B5C-8587-4A8C-9201-61B7CCE71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98DE-4003-425D-AAE3-C0DE7060B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917C-2ADF-4876-8B41-F52AAAB8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87D5-69E2-43D4-97F3-66E50424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50FA-AE15-449D-9E41-CF8056DB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4617b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93FD2-D028-488E-A10A-3BEDC052BDAC}" type="slidenum"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4617b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62487-AB80-4738-9B56-7D406209C0B9}" type="slidenum"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image" Target="../media/image12.gif"/><Relationship Id="rId6" Type="http://schemas.openxmlformats.org/officeDocument/2006/relationships/image" Target="../media/image13.gif"/><Relationship Id="rId7" Type="http://schemas.openxmlformats.org/officeDocument/2006/relationships/image" Target="../media/image14.gif"/><Relationship Id="rId8" Type="http://schemas.openxmlformats.org/officeDocument/2006/relationships/image" Target="../media/image15.gi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4" descr="children_0120.gif"/>
          <p:cNvPicPr/>
          <p:nvPr/>
        </p:nvPicPr>
        <p:blipFill>
          <a:blip r:embed="rId1"/>
          <a:stretch/>
        </p:blipFill>
        <p:spPr>
          <a:xfrm>
            <a:off x="7596360" y="5300640"/>
            <a:ext cx="1222200" cy="136836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5" descr="children_0170.gif"/>
          <p:cNvPicPr/>
          <p:nvPr/>
        </p:nvPicPr>
        <p:blipFill>
          <a:blip r:embed="rId2"/>
          <a:stretch/>
        </p:blipFill>
        <p:spPr>
          <a:xfrm>
            <a:off x="6804000" y="2924280"/>
            <a:ext cx="1224000" cy="195876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6" descr="children_0133.gif"/>
          <p:cNvPicPr/>
          <p:nvPr/>
        </p:nvPicPr>
        <p:blipFill>
          <a:blip r:embed="rId3"/>
          <a:stretch/>
        </p:blipFill>
        <p:spPr>
          <a:xfrm>
            <a:off x="1042920" y="5153040"/>
            <a:ext cx="3810240" cy="170496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7" descr="children_0127.gif"/>
          <p:cNvPicPr/>
          <p:nvPr/>
        </p:nvPicPr>
        <p:blipFill>
          <a:blip r:embed="rId4"/>
          <a:stretch/>
        </p:blipFill>
        <p:spPr>
          <a:xfrm>
            <a:off x="7524720" y="189000"/>
            <a:ext cx="1368360" cy="167472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8" descr="children_0166.gif"/>
          <p:cNvPicPr/>
          <p:nvPr/>
        </p:nvPicPr>
        <p:blipFill>
          <a:blip r:embed="rId5"/>
          <a:stretch/>
        </p:blipFill>
        <p:spPr>
          <a:xfrm>
            <a:off x="250920" y="2708280"/>
            <a:ext cx="1257120" cy="15238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1547640" y="1989000"/>
            <a:ext cx="6553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ен 5- сыныпқа барамын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916360" y="3716280"/>
            <a:ext cx="352872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ренинг сабағ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1356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           </a:t>
            </a: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«Майшам» жаттығуы</a:t>
            </a: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755640" y="2781000"/>
            <a:ext cx="763272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4617b"/>
                </a:solidFill>
                <a:latin typeface="Tahoma"/>
              </a:rPr>
              <a:t>Оқушылар менің қолымдағы сүйкімді ойыншыққа назар аударыңыздар. Қазір ол сендердің қолдарыңнан өтеді, сыныптас достарымызға өз тілектерімізді айтамыз. Мен бастаймын, Бақыт 5 сыныпқа барғанда да сабағыңды жақсы оқып, үлгілі оқушы болуыңды тілеймін.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26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476280"/>
            <a:ext cx="213984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476280"/>
            <a:ext cx="2139840" cy="23511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826920" y="3141720"/>
            <a:ext cx="7344000" cy="162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зарларыңызға рахмет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156360" y="1773360"/>
            <a:ext cx="144000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ahoma"/>
              </a:rPr>
              <a:t>Ма</a:t>
            </a: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қсаты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99640" y="3141720"/>
            <a:ext cx="7775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4617b"/>
                </a:solidFill>
                <a:latin typeface="Tahoma"/>
              </a:rPr>
              <a:t>Оқушыларды ойын-жаттығулар арқылы 5-сыныпқа даярлау, оқушы көзқарасын қалыптастыру, қабілетін тануға көмектесу.</a:t>
            </a:r>
            <a:endParaRPr b="0" lang="en-US" sz="32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93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692280"/>
            <a:ext cx="2139840" cy="23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Өту барысы</a:t>
            </a: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1989000"/>
            <a:ext cx="64008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Сәлемдесу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Шағын  пікірталас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Ситуациялық жағдаяттар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«Көңіл-күй» ойын-жаттығу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 </a:t>
            </a: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«Үміт хаты» жаттығуы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«Қош бол, кедергілер» жаттығуы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«Май шам» жаттығуы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Қорытынды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96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692280"/>
            <a:ext cx="2139840" cy="23508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7" descr="children_0127.gif"/>
          <p:cNvPicPr/>
          <p:nvPr/>
        </p:nvPicPr>
        <p:blipFill>
          <a:blip r:embed="rId2"/>
          <a:stretch/>
        </p:blipFill>
        <p:spPr>
          <a:xfrm>
            <a:off x="7524720" y="189000"/>
            <a:ext cx="1368360" cy="16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ahoma"/>
              </a:rPr>
              <a:t>            </a:t>
            </a: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Шағын пікірталас</a:t>
            </a: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99640" y="2637000"/>
            <a:ext cx="727236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1-ші топ: 4-сыныпта не жеңіл, не қиын алдарыңыздағы плакатқа жазасыздар. 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2-ші топ: алдағы 5-сыныпты қалай көздеріңізге елестетесіздер? 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3-ші топ: 5-сыныптың  сынып жетекшісі қандай болғанын қалайсыз?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   </a:t>
            </a: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Содан кейін топтардан бір кісіден шығып өз ой-пікірлерін айтады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00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404640"/>
            <a:ext cx="2139840" cy="235116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4" descr="children_0120.gif"/>
          <p:cNvPicPr/>
          <p:nvPr/>
        </p:nvPicPr>
        <p:blipFill>
          <a:blip r:embed="rId2"/>
          <a:stretch/>
        </p:blipFill>
        <p:spPr>
          <a:xfrm>
            <a:off x="7596360" y="5300640"/>
            <a:ext cx="122220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ahoma"/>
              </a:rPr>
              <a:t>           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Жағдаяттар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826920" y="2781000"/>
            <a:ext cx="705816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1.Таңартең сабаққа мамаң шығарып салды, екі алма, бес алып кел деп жіберді. Сен сабақтан екі алдың, мамаңа қалай айтасың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2.Есеп шығара алмадың, не істейсің?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3.Сабақтың алғашқы күндері, сабаққа дайындалмай келдің, мұғалімнен қорқып отырсың, сабақ сұрады не деп жауап бересің?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04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476280"/>
            <a:ext cx="2139840" cy="235116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children_0170.gif"/>
          <p:cNvPicPr/>
          <p:nvPr/>
        </p:nvPicPr>
        <p:blipFill>
          <a:blip r:embed="rId2"/>
          <a:stretch/>
        </p:blipFill>
        <p:spPr>
          <a:xfrm>
            <a:off x="7386480" y="4292640"/>
            <a:ext cx="1224000" cy="19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1356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           </a:t>
            </a: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«Көңіл-күй» жаттығуы</a:t>
            </a: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2781000"/>
            <a:ext cx="763272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Менің алдымда билеттер жатыр, екі топқа   билет беріледі. Билеттің ішіндегі сөзді оқып, сол кейіпке еніп көрсетесіздер, қарсы топ тауып айту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- Сабақта ұялып тұрған бала, екі алып жылап тұрған бала, мұғалімге ренжіп тұрған бала, «5» алып қуанып тұрған бала, мақтанып тұрған бала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- Әр түрлі жануарлардың бейнесін салу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08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476280"/>
            <a:ext cx="213984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ahoma"/>
              </a:rPr>
              <a:t>           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өңіл-күй түрлері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10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692280"/>
            <a:ext cx="2139840" cy="2350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C:\Users\Venus\Desktop\Жаңа қалта (2)\67.gif"/>
          <p:cNvPicPr/>
          <p:nvPr/>
        </p:nvPicPr>
        <p:blipFill>
          <a:blip r:embed="rId2"/>
          <a:stretch/>
        </p:blipFill>
        <p:spPr>
          <a:xfrm>
            <a:off x="3059280" y="2421000"/>
            <a:ext cx="1249200" cy="1228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C:\Users\Venus\Desktop\Жаңа қалта (2)\130.gif"/>
          <p:cNvPicPr/>
          <p:nvPr/>
        </p:nvPicPr>
        <p:blipFill>
          <a:blip r:embed="rId3"/>
          <a:stretch/>
        </p:blipFill>
        <p:spPr>
          <a:xfrm>
            <a:off x="4859280" y="2421000"/>
            <a:ext cx="1209600" cy="1209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C:\Users\Venus\Desktop\Жаңа қалта (2)\115.gif"/>
          <p:cNvPicPr/>
          <p:nvPr/>
        </p:nvPicPr>
        <p:blipFill>
          <a:blip r:embed="rId4"/>
          <a:stretch/>
        </p:blipFill>
        <p:spPr>
          <a:xfrm>
            <a:off x="6372360" y="2492280"/>
            <a:ext cx="2016000" cy="111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C:\Users\Venus\Desktop\Жаңа қалта (2)\124.gif"/>
          <p:cNvPicPr/>
          <p:nvPr/>
        </p:nvPicPr>
        <p:blipFill>
          <a:blip r:embed="rId5"/>
          <a:stretch/>
        </p:blipFill>
        <p:spPr>
          <a:xfrm>
            <a:off x="1116000" y="3429000"/>
            <a:ext cx="2016000" cy="1971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C:\Users\Venus\Desktop\Жаңа қалта (2)\195.gif"/>
          <p:cNvPicPr/>
          <p:nvPr/>
        </p:nvPicPr>
        <p:blipFill>
          <a:blip r:embed="rId6"/>
          <a:stretch/>
        </p:blipFill>
        <p:spPr>
          <a:xfrm>
            <a:off x="3276720" y="3933720"/>
            <a:ext cx="1224000" cy="12463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C:\Users\Venus\Desktop\Жаңа қалта (2)\152.gif"/>
          <p:cNvPicPr/>
          <p:nvPr/>
        </p:nvPicPr>
        <p:blipFill>
          <a:blip r:embed="rId7"/>
          <a:stretch/>
        </p:blipFill>
        <p:spPr>
          <a:xfrm>
            <a:off x="4950000" y="3933720"/>
            <a:ext cx="1552320" cy="1333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C:\Users\Venus\Desktop\Жаңа қалта (2)\227.gif"/>
          <p:cNvPicPr/>
          <p:nvPr/>
        </p:nvPicPr>
        <p:blipFill>
          <a:blip r:embed="rId8"/>
          <a:stretch/>
        </p:blipFill>
        <p:spPr>
          <a:xfrm>
            <a:off x="6985080" y="4013280"/>
            <a:ext cx="118728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1356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           </a:t>
            </a: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«Үміт хаты» жаттығуы</a:t>
            </a: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755640" y="2923920"/>
            <a:ext cx="763272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4617b"/>
                </a:solidFill>
                <a:latin typeface="Tahoma"/>
              </a:rPr>
              <a:t>Оқушыларға аттары жазылған  парақтар үлестіріледі, осы оқушының қасиеттері туралы  жазу тапсырылады.</a:t>
            </a:r>
            <a:endParaRPr b="0" lang="en-US" sz="32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20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476280"/>
            <a:ext cx="213984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1356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           </a:t>
            </a: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«Қош бол кедергілер» жаттығуы</a:t>
            </a: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755640" y="2781000"/>
            <a:ext cx="763272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4617b"/>
                </a:solidFill>
                <a:latin typeface="Tahoma"/>
              </a:rPr>
              <a:t>Сіздер 5- сыныпқа барасыздар, қорқыныштарың болады, сол қорқыныштарыңды ақ параққа түсіріңдер. Содан кейін салған қорқыныштарыңды умаждап себетке саламыз. Сөйтіп, қорқыныштарымыздан арыламыз.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23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476280"/>
            <a:ext cx="213984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8T13:52:20Z</dcterms:created>
  <dc:creator>user</dc:creator>
  <dc:description/>
  <dc:language>en-US</dc:language>
  <cp:lastModifiedBy>Customer</cp:lastModifiedBy>
  <dcterms:modified xsi:type="dcterms:W3CDTF">2012-04-15T19:41:36Z</dcterms:modified>
  <cp:revision>3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61049</vt:lpwstr>
  </property>
</Properties>
</file>